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967-72E1-4368-AB86-366CBFDC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73A-8FCE-468A-A536-7A9F31E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51E-F6B5-423B-BABC-1DAFE33F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A68-47B9-466F-90B4-4287CB58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E913-50EE-45FA-AD76-F7325FE2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6DF7-D1C3-4080-B2E8-2322846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A804-B6EB-454B-8E3D-80C9C36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21C4-A6BC-4430-9ED5-273BED5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DD3-236F-471B-A6FA-A2F06391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E44-AAAD-4EED-A480-FC1685E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C0D-CE1E-48E0-BFFF-6FFAECA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EF4-1B91-46B6-955A-557F37A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A631-7172-4217-9729-1E6AD6F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4B9A-A47F-45E8-919F-01C67F2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9AA-5E44-434A-A821-7001312E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D061-E4F5-4C9A-8427-DCFFC3CE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1917-6CE0-410F-8309-677E5DA6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B04-A4D4-442A-89C7-69F6AA9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BCD-9D6D-409D-AC04-6F4C56CB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157-E4C6-4CD7-8F65-8EF903C8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116-2432-4013-89A3-BC83136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E1C-0CCC-41BD-BDE3-49C7933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11F-97FA-4281-837E-1851F75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000-1054-445C-9882-48EB9AC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A58-5C37-4D3A-8AD3-9D185E2D01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033B-AFA5-4B94-A33F-1F0A1C2EED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56000" y="1125360"/>
            <a:ext cx="476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furi neorientate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4032360" cy="3300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08360" y="54936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i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1979640" cy="181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3429000"/>
            <a:ext cx="48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Retele de transport in com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Alei in par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Linii de produc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 rot="1291800">
            <a:off x="5580000" y="3500280"/>
            <a:ext cx="2675160" cy="288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4210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Bernard MT Condensed"/>
              </a:rPr>
              <a:t>Ca in lumea reala exis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157720"/>
            <a:ext cx="1511280" cy="1368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4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5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85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85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85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95640" y="692280"/>
            <a:ext cx="309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reau sa sti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10440" y="0"/>
            <a:ext cx="2833560" cy="185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2781360"/>
            <a:ext cx="4249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e reprezinta un gra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e modeleaza lumea reala cu ajutorul grafur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429000"/>
            <a:ext cx="3348000" cy="324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187280" y="4597560"/>
            <a:ext cx="3394080" cy="2260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2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2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2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40000" y="836640"/>
            <a:ext cx="26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m invata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84720" y="333360"/>
            <a:ext cx="2708280" cy="159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258920" y="4365720"/>
            <a:ext cx="3770280" cy="219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2492280"/>
            <a:ext cx="838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reprezint un graf prin matricea de adiac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reprezint un graf prin liste de adiac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identific drumul minim si maxim intr-un gr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4221000"/>
            <a:ext cx="2880000" cy="24037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4000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25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25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0:36Z</dcterms:created>
  <dc:creator>profesor</dc:creator>
  <dc:description/>
  <dc:language>en-US</dc:language>
  <cp:lastModifiedBy>profesor</cp:lastModifiedBy>
  <dcterms:modified xsi:type="dcterms:W3CDTF">2011-03-23T16:08:11Z</dcterms:modified>
  <cp:revision>6</cp:revision>
  <dc:subject/>
  <dc:title>Diapozitivul 1</dc:title>
</cp:coreProperties>
</file>